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8139-35E3-4B52-A40F-D27C7A060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480A-BA25-4FEA-9436-637FBD82AC6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DC29-3A4C-43AF-A606-95B5B3FDFBD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FEDC-6EE7-432A-A825-02133B7553F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0036-5466-42A5-AF7E-D3272ED4DFE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2730-6049-404D-A10C-1A2D96E7114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D4BC-2629-420A-9389-223725E3E90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0D37-D771-41BD-A2D2-8801746FDA3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7AA3-89DD-4C5C-A3B3-91586BA6634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6854-A6F8-4783-9D67-5FDDB43A167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FC67-4E74-416B-83A0-1821ECD9F65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1818-FB65-4E71-8EAF-383B6DACFD1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D39F-19D1-4180-8009-31B2342BF72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4603-5E0A-421B-9702-F8DC42A46FE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D5F8-1344-452A-9F18-D6B95B2DC89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E3C7-9C2A-46AB-A1C1-C2037AF3D1C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7E19-97CA-4DAF-8865-BAF796252DC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A336-DA1E-47FC-AEC4-C1B91B15E24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65DF-072E-436C-9F69-A50F03923E6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CBF9-3FA2-4B84-9C1A-064B85CA551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E0DD-1AC8-4916-B904-0940738E3D4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AC02-2E1D-440C-AD1B-6720BC5E2EE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DC6B-5AFD-4DB7-A788-7D9470D081A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8ACD-ADDD-4CA1-A30E-6AD23F1B926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0821-885C-4EE0-9E99-EB833AF73A1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5827-CF34-4401-81AB-0D54A1E267B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284F-82D3-4EA1-B7A0-337011AB96F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7699-75D3-4AA2-BF35-7D31745A0EB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AF22-EE3F-4A13-9106-A3B29E80977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2F77-1B25-460F-92E3-433C4C24C4B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DB71-C33F-480D-94D5-9555F489828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95BD-2CFC-4BF1-B16C-CF5AB1BAE09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31E0-9637-4EA2-BD2F-86D4E5CB290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70A6-D1A2-4240-B3CA-588CDB56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5D7-4AB3-4031-8FD0-1000183E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465B-47FC-4C43-8F78-4F9D65AA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DE38-F2FF-4D63-A66F-148F533A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6C9-5EC4-4989-987B-B33AD01D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4F97-16C7-4341-9C70-57DDEB20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500-7871-482F-9EE2-4E23828C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389-63C8-4289-B771-354A23D1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16A-0A08-4273-B41B-3B0F5459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5AA-8EA7-4D5E-AC23-D74D28E9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74DF-83B0-4ED4-8992-32654396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8BD2-F874-4778-B5CD-59F2D9B7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28F0-5E67-434A-8DE6-FD4BE41D63B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14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washor@uri.ed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ricejobfair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lickwilly@yah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249200" y="2514600"/>
            <a:ext cx="70567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6699"/>
                </a:solidFill>
                <a:latin typeface="Arial"/>
              </a:rPr>
              <a:t>        ……</a:t>
            </a:r>
            <a:r>
              <a:rPr b="0" i="1" lang="en-US" sz="3600" spc="-1" strike="noStrike">
                <a:solidFill>
                  <a:srgbClr val="666699"/>
                </a:solidFill>
                <a:latin typeface="Arial"/>
              </a:rPr>
              <a:t>with a Teacher Focu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URI Career Service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rolyn Thomas, M.A.T., M.Ed.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143000" y="106668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Resume/Cover Letter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371600" y="25146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………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th a Teacher Focu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400" y="262728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o clearly stat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position you see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ool/agency/industry you want to 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kills you bring to the jo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* best used at job fai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obtain a position as an elementary teacher at a private school, using my knowledge of psychology and ability to motivate students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arts of a resume …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Objective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(optional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9880" y="839880"/>
            <a:ext cx="57880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arts of a resume…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duc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212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Rhode Island, Kingston, R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helor of Science in Secondary Educ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00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helor of Arts in Englis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A in Education:  3.4/4.0; Dean’s Li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: RI 7-12 with ESL Endors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udent Exchang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nt John’s University, Sydney, Austr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200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College of Rhode Island, Warwick, RI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00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ociate of Arts in Liberal A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not to inclu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5905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 school related information*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ests and personal information*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e of birth/ethni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s of supervisors or manag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lephone numbers of organiz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*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The exception: unless it is directly related to the object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8160" y="834480"/>
            <a:ext cx="6399720" cy="100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arts of a resume…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xperie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6212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 “you” are the subject of the resume.  Therefore, never use “I” or “My”.  There are no complete sentences on resu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llets or paragraphs are comprised of action verbs and fragment sentenc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work experience combined in one/Separated into Related vs. 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10000" y="962280"/>
            <a:ext cx="782820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perience Descrip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14400" y="2362320"/>
            <a:ext cx="7620120" cy="44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3366"/>
                </a:solidFill>
                <a:latin typeface="Tahoma"/>
              </a:rPr>
              <a:t>5 Elements:</a:t>
            </a: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Job Titl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Company or Organizatio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City, Stat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Dat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Responsibilities of positio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Present tense if current position /past tense if past job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Emphasize: 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Quantitative amounts (numerical) and qualitative (descriptive) data.  New ideas or positive implementation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Rectangle 1028"/>
          <p:cNvSpPr/>
          <p:nvPr/>
        </p:nvSpPr>
        <p:spPr>
          <a:xfrm>
            <a:off x="1351080" y="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1029"/>
          <p:cNvSpPr/>
          <p:nvPr/>
        </p:nvSpPr>
        <p:spPr>
          <a:xfrm>
            <a:off x="0" y="2133720"/>
            <a:ext cx="461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XPERIENCE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|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66"/>
                </a:solidFill>
                <a:latin typeface="Tahoma"/>
              </a:rPr>
              <a:t>Peabody Camp, Peabody, MA</a:t>
            </a: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      Summer 2007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Nature Instructor/Superviso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3366"/>
                </a:solidFill>
                <a:latin typeface="Tahoma"/>
              </a:rPr>
              <a:t>Coordinated daily </a:t>
            </a: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nature </a:t>
            </a:r>
            <a:r>
              <a:rPr b="0" sz="1400" spc="-1" strike="noStrike">
                <a:solidFill>
                  <a:srgbClr val="003366"/>
                </a:solidFill>
                <a:latin typeface="Tahoma"/>
              </a:rPr>
              <a:t>activities </a:t>
            </a: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for</a:t>
            </a:r>
            <a:r>
              <a:rPr b="0" sz="1400" spc="-1" strike="noStrike">
                <a:solidFill>
                  <a:srgbClr val="003366"/>
                </a:solidFill>
                <a:latin typeface="Tahoma"/>
              </a:rPr>
              <a:t> 250 campers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3366"/>
                </a:solidFill>
                <a:latin typeface="Tahoma"/>
              </a:rPr>
              <a:t>scheduled and supervised 17 camp couns</a:t>
            </a: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e</a:t>
            </a:r>
            <a:r>
              <a:rPr b="0" sz="1400" spc="-1" strike="noStrike">
                <a:solidFill>
                  <a:srgbClr val="003366"/>
                </a:solidFill>
                <a:latin typeface="Tahoma"/>
              </a:rPr>
              <a:t>lors </a:t>
            </a: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as thei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groups participated in the programs.  Ordered all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supplies and gathered demonstration materials.</a:t>
            </a:r>
            <a:r>
              <a:rPr b="0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Planned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monthly programs around environmental theme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Seashore Pub, Wayne, NJ </a:t>
            </a:r>
            <a:r>
              <a:rPr b="0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      Summer 2006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Waitres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Utilized communication and interpersonal skills t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assist customers.  Multi-tasked in fast pac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environment handling up to 12 tables.  Work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as member of three person team to expedi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foodservic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1030"/>
          <p:cNvSpPr/>
          <p:nvPr/>
        </p:nvSpPr>
        <p:spPr>
          <a:xfrm>
            <a:off x="4800600" y="2209680"/>
            <a:ext cx="434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3366"/>
                </a:solidFill>
                <a:latin typeface="Tahoma"/>
              </a:rPr>
              <a:t>Counseling Experience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Tahoma"/>
              </a:rPr>
              <a:t>ACE Care</a:t>
            </a:r>
            <a:r>
              <a:rPr b="0" sz="17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0" lang="en-US" sz="1700" spc="-1" strike="noStrike">
                <a:solidFill>
                  <a:srgbClr val="003366"/>
                </a:solidFill>
                <a:latin typeface="Tahoma"/>
              </a:rPr>
              <a:t>Dole</a:t>
            </a:r>
            <a:r>
              <a:rPr b="0" sz="1700" spc="-1" strike="noStrike">
                <a:solidFill>
                  <a:srgbClr val="003366"/>
                </a:solidFill>
                <a:latin typeface="Tahoma"/>
              </a:rPr>
              <a:t>, MA</a:t>
            </a:r>
            <a:r>
              <a:rPr b="0" lang="en-US" sz="1700" spc="-1" strike="noStrike">
                <a:solidFill>
                  <a:srgbClr val="003366"/>
                </a:solidFill>
                <a:latin typeface="Tahoma"/>
              </a:rPr>
              <a:t>            2005</a:t>
            </a:r>
            <a:r>
              <a:rPr b="0" sz="17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1700" spc="-1" strike="noStrike">
                <a:solidFill>
                  <a:srgbClr val="003366"/>
                </a:solidFill>
                <a:latin typeface="Tahoma"/>
              </a:rPr>
              <a:t>Present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sz="1700" spc="-1" strike="noStrike">
                <a:solidFill>
                  <a:srgbClr val="003366"/>
                </a:solidFill>
                <a:latin typeface="Tahoma"/>
              </a:rPr>
              <a:t>Rehabilitation Counselor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3366"/>
                </a:solidFill>
                <a:latin typeface="Tahoma"/>
              </a:rPr>
              <a:t>Assist  caseload of 23 clients with personal, social, </a:t>
            </a:r>
            <a:r>
              <a:rPr b="0" lang="en-US" sz="1700" spc="-1" strike="noStrike">
                <a:solidFill>
                  <a:srgbClr val="003366"/>
                </a:solidFill>
                <a:latin typeface="Tahoma"/>
              </a:rPr>
              <a:t>b</a:t>
            </a:r>
            <a:r>
              <a:rPr b="0" sz="1700" spc="-1" strike="noStrike">
                <a:solidFill>
                  <a:srgbClr val="003366"/>
                </a:solidFill>
                <a:latin typeface="Tahoma"/>
              </a:rPr>
              <a:t>ehavioral, and</a:t>
            </a:r>
            <a:r>
              <a:rPr b="0" lang="en-US" sz="17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sz="1700" spc="-1" strike="noStrike">
                <a:solidFill>
                  <a:srgbClr val="003366"/>
                </a:solidFill>
                <a:latin typeface="Tahoma"/>
              </a:rPr>
              <a:t>vocational issues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3366"/>
                </a:solidFill>
                <a:latin typeface="Tahoma"/>
              </a:rPr>
              <a:t>Foster independant thinking skills within client</a:t>
            </a:r>
            <a:r>
              <a:rPr b="0" lang="en-US" sz="1700" spc="-1" strike="noStrike">
                <a:solidFill>
                  <a:srgbClr val="003366"/>
                </a:solidFill>
                <a:latin typeface="Tahoma"/>
              </a:rPr>
              <a:t> and set goals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3366"/>
                </a:solidFill>
                <a:latin typeface="Tahoma"/>
              </a:rPr>
              <a:t>Utilize assessment tools such as SIGI  in the evaluation process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3366"/>
                </a:solidFill>
                <a:latin typeface="Tahoma"/>
              </a:rPr>
              <a:t>Confer with clients, families and physcians to implement</a:t>
            </a:r>
            <a:r>
              <a:rPr b="0" lang="en-US" sz="1700" spc="-1" strike="noStrike">
                <a:solidFill>
                  <a:srgbClr val="003366"/>
                </a:solidFill>
                <a:latin typeface="Tahoma"/>
              </a:rPr>
              <a:t> re</a:t>
            </a:r>
            <a:r>
              <a:rPr b="0" sz="1700" spc="-1" strike="noStrike">
                <a:solidFill>
                  <a:srgbClr val="003366"/>
                </a:solidFill>
                <a:latin typeface="Tahoma"/>
              </a:rPr>
              <a:t>habilitation programs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1031"/>
          <p:cNvSpPr/>
          <p:nvPr/>
        </p:nvSpPr>
        <p:spPr>
          <a:xfrm>
            <a:off x="304920" y="1523880"/>
            <a:ext cx="38862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verse Chronological / Paragrap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1032"/>
          <p:cNvSpPr/>
          <p:nvPr/>
        </p:nvSpPr>
        <p:spPr>
          <a:xfrm>
            <a:off x="4952880" y="15238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ailored /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ulleted Sty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1033"/>
          <p:cNvSpPr/>
          <p:nvPr/>
        </p:nvSpPr>
        <p:spPr>
          <a:xfrm>
            <a:off x="304920" y="4572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tyles of Resum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1066680" y="2590920"/>
            <a:ext cx="70106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Volunteer Activ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rofessional Membershi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Honors and Awards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(i.e. Kappa Delta P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Leadership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rofessional Develop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omputer/Language Ski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lated Activi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48680" y="972360"/>
            <a:ext cx="62085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sz="3000" spc="-1" strike="noStrike">
                <a:solidFill>
                  <a:srgbClr val="006666"/>
                </a:solidFill>
                <a:latin typeface="Arial"/>
              </a:rPr>
              <a:t>Computer /Language</a:t>
            </a: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sz="3000" spc="-1" strike="noStrike">
                <a:solidFill>
                  <a:srgbClr val="006666"/>
                </a:solidFill>
                <a:latin typeface="Arial"/>
              </a:rPr>
              <a:t>Skills</a:t>
            </a:r>
            <a:br>
              <a:rPr sz="3000"/>
            </a:b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Proficient in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Word, 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Excel, Pow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oint, use of Inter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t and E-mail.  Working knowledge of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S 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Access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ontPage, and Adobe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Pagemak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Flue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in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anish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.  Written understanding of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alian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and Portugues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ace Saving Techni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duce font but not smaller than 10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ial 10 point looks bigger than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imes New Roman 1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oin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t is still space sav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blank space on a resume is the same size as your font. Highlight and reduce the blank space to an 8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 File Page Set up reduce the standard margins (1 and 1.25) to an overall size of .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11386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3366"/>
                </a:solidFill>
                <a:latin typeface="Arial"/>
              </a:rPr>
              <a:t>Top 7 Skills Employers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Look</a:t>
            </a:r>
            <a:r>
              <a:rPr b="0" sz="3000" spc="-1" strike="noStrike">
                <a:solidFill>
                  <a:srgbClr val="003366"/>
                </a:solidFill>
                <a:latin typeface="Arial"/>
              </a:rPr>
              <a:t> For in Job Candidates</a:t>
            </a:r>
            <a:br>
              <a:rPr sz="1600"/>
            </a:b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66"/>
                </a:solidFill>
                <a:latin typeface="Arial"/>
              </a:rPr>
              <a:t>1.  Interpersonal ski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66"/>
                </a:solidFill>
                <a:latin typeface="Arial"/>
              </a:rPr>
              <a:t>2.  Team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66"/>
                </a:solidFill>
                <a:latin typeface="Arial"/>
              </a:rPr>
              <a:t>3.  Verbal Communi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sz="2400" spc="-1" strike="noStrike">
                <a:solidFill>
                  <a:srgbClr val="003366"/>
                </a:solidFill>
                <a:latin typeface="Arial"/>
              </a:rPr>
              <a:t>ation ski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66"/>
                </a:solidFill>
                <a:latin typeface="Arial"/>
              </a:rPr>
              <a:t>4.  Analyti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66"/>
                </a:solidFill>
                <a:latin typeface="Arial"/>
              </a:rPr>
              <a:t>5.  Computer savv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66"/>
                </a:solidFill>
                <a:latin typeface="Arial"/>
              </a:rPr>
              <a:t>6.  Written communi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66"/>
                </a:solidFill>
                <a:latin typeface="Arial"/>
              </a:rPr>
              <a:t>7.  Leadershi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3366"/>
                </a:solidFill>
                <a:latin typeface="Times New Roman"/>
              </a:rPr>
              <a:t>* National Association of College and Employers 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(Spring</a:t>
            </a:r>
            <a:r>
              <a:rPr b="1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2007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d you know? 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52280" y="3050640"/>
            <a:ext cx="72644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employer initially takes about 10-20 seconds to review a resume and decide if it makes the first cu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14680" y="96732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 page with name at t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um of three professional (mgr. /supervis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ware you are using them as a re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should have a copy of your resu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ludes their contact informatio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isa Ferns, M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Title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reer Advi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Organization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iversity of Rhode Islan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Addres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28 Roosevelt Hal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ingston, RI  0221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Telephon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1 874-511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E-mail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puddico@uri.ed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eferences of  Lisa Fer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35 Roosevelt Hall, Kingston ,RI  02881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(401) 874-5119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puddico@uri.edu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Kim Washor, Coordinator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Office of Internships and Experiential Edu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University of Rhode Islan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oosevelt Hal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Kingston, RI   0288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kwashor@uri.edu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401) 874-222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ichael Fairmount, Manag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outh Shore Restaura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35 Kings Hill Roa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Kent, WA  06283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860) 456-287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10000" y="962280"/>
            <a:ext cx="782820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ver Let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990720" y="2514600"/>
            <a:ext cx="739116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lways (whenever possible) addressed to a specific person with their correct title and contact information (See handou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Usually one page in length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void re-hashing information from you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resu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ailored to each job and error fr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19720" y="9723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ver Letter: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66680" y="2590920"/>
            <a:ext cx="739152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how the reader that this letter specifically for th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by using co. name and proof of researc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Demonstrate that your skills are a direct match fo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job description by using concrete examples of you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wor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ank them for their time and conside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14680" y="1119240"/>
            <a:ext cx="7818840" cy="73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ver Letter: Opening Paragraph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90720" y="2590920"/>
            <a:ext cx="7696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pecifically state purpose of letter and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position seeking (See handout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ention company name and why you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want to work th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ay something positive about yourself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(Capture the attention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f Networking, mention h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2000" y="72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ver Letter: The Bo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44956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Secondary English Educa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Seeking a certified teacher for full time position teaching English grades 9-12 in inner city setting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6666"/>
                </a:solidFill>
                <a:latin typeface="Arial"/>
              </a:rPr>
              <a:t>Must have bachelors degree, be RI certified, able to teach  grammar, creative writing, the classics, and theatre.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ec0"/>
                </a:solidFill>
                <a:latin typeface="Arial"/>
              </a:rPr>
              <a:t>Strong classroom management skills,  excellent  communication skills and ability to address diverse learner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As a student teacher within th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Providence school district, I had th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opportunity to work with a divers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student population.  Additionally, I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volunteered my time within the LAS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organization assisting Latino stud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pursuing scholarship opportunities.  </a:t>
            </a:r>
            <a:r>
              <a:rPr b="0" lang="en-US" sz="1600" spc="-1" strike="noStrike">
                <a:solidFill>
                  <a:srgbClr val="196666"/>
                </a:solidFill>
                <a:latin typeface="Arial"/>
              </a:rPr>
              <a:t>I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6666"/>
                </a:solidFill>
                <a:latin typeface="Arial"/>
              </a:rPr>
              <a:t>created original lesson plans address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6666"/>
                </a:solidFill>
                <a:latin typeface="Arial"/>
              </a:rPr>
              <a:t>visual and kinesthetic learners  with 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6666"/>
                </a:solidFill>
                <a:latin typeface="Arial"/>
              </a:rPr>
              <a:t>Shakespearian theme.  This allowed me to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6666"/>
                </a:solidFill>
                <a:latin typeface="Arial"/>
              </a:rPr>
              <a:t>utilize my creativity in producing a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6666"/>
                </a:solidFill>
                <a:latin typeface="Arial"/>
              </a:rPr>
              <a:t>classroom play regarding Romeo 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6666"/>
                </a:solidFill>
                <a:latin typeface="Arial"/>
              </a:rPr>
              <a:t>Juliet.   </a:t>
            </a:r>
            <a:r>
              <a:rPr b="0" lang="en-US" sz="1600" spc="-1" strike="noStrike">
                <a:solidFill>
                  <a:srgbClr val="005ec0"/>
                </a:solidFill>
                <a:latin typeface="Arial"/>
              </a:rPr>
              <a:t>Throughout all my position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ec0"/>
                </a:solidFill>
                <a:latin typeface="Arial"/>
              </a:rPr>
              <a:t>in education, I have managed th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ec0"/>
                </a:solidFill>
                <a:latin typeface="Arial"/>
              </a:rPr>
              <a:t>classroom through positive reinforcemen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ec0"/>
                </a:solidFill>
                <a:latin typeface="Arial"/>
              </a:rPr>
              <a:t>and modeled appropriate behaviors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I hav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eld parent-teacher conferences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llaborated with staff and co-workers 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ided students through the colleg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pplication proces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ver Letter: The Clos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pro-active/re-ac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tate that you are a solid mat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ntion school name ag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nk th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lary ranges in R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rom RI Association of Scho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mmitte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sic Salary Range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7-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Range within st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  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$34,321 to $43,05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Central Fall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 10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$59,989 to $70,05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me have added steps 10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$74,907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for Longevity, Education, National Bd. Cer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lary: Nationwide comparis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2008 AAEE Job Search Handbo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r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I Average 2004-20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$33,8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$56,43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$24,872 (ND)     $34,038(S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$39,259 (CT)     $57,760(C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High paying states: IL, CA, MA, MI, NY, AK, PA, 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a Teaching Position Without Mov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r in a Specific Area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from 2006 AAEE Job Search Handbook for Teacher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a survey of Western PA school administrators, an area where teaching market is competitive in many certification area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p Suggestions: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Substitute Teac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Adding another Certification/Lice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Serving as a Paraprofess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Become a computer/technology expe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. Volunteer in the Schoo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ue or Fals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Text Box 1027"/>
          <p:cNvSpPr/>
          <p:nvPr/>
        </p:nvSpPr>
        <p:spPr>
          <a:xfrm>
            <a:off x="838080" y="2590920"/>
            <a:ext cx="79250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You should have a PERFECT resum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 good resume will get you the job you want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Having your information on Facebook, friendster or my space will not effect your job search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ortant URI dates for Spring 08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400" y="2362320"/>
            <a:ext cx="761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ril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Career and Job Fair 2008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am-3pm; URI Ryan Cen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ridges, Inc.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hild and Family Services of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Newport County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Communities For People, Inc.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Eckerd Youth Alternatives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Gateway Healthcare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South Bay Mental Health Center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tevens Treatment Programs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 Groden Network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 Providence Center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5638680" y="411480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More information available by logging into RhodyNet and looking under Career Events menu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.I.C.E. Education Career Fai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5146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ursday, April 17th, 20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Crowne Plaza in Warwick, 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~65 districts attending (nationwid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a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ricejobfair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workshops on Mon, April 7 and Thur  April 10, 20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Questions?????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URI Career Servic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28 Roosevelt Hal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1 874-231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reer@etal.uri.ed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haracteristics of a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Good Resum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440" y="24382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ll organized profiles of your qualific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ludes education, experience, and responsibilities as well as skills, abilities, and accomplish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4002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at, organized,  and has flawless grammar, spelling, format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unicates in a concise, effective mann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ilored to the 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od Fo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294920" y="2514600"/>
            <a:ext cx="377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ho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imes New Rom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Fax"/>
              </a:rPr>
              <a:t>Luc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Couri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Verd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10552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oint size: 10 m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sic rules for a resu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st be the tru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ise and to the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rases on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cally one page for new gr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yout of a resu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7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der of importance is left to right and top to bot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ce according to importan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clear fo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ropriate point s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st be easy to r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4"/>
          <p:cNvSpPr/>
          <p:nvPr/>
        </p:nvSpPr>
        <p:spPr>
          <a:xfrm>
            <a:off x="838080" y="8380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Tahoma"/>
              </a:rPr>
              <a:t>Parts of a resume…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the Header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762120" y="2514600"/>
            <a:ext cx="7619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Nam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Largest item on the page (14-16 point siz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Bold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,  ALL CAPS,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  <a:ea typeface="Times New Roman"/>
              </a:rPr>
              <a:t>MALL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  <a:ea typeface="Times New Roman"/>
              </a:rPr>
              <a:t>A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ddress (permanent vs. schoo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elephone number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(include area cod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Cell phone ###?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E-ma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Watch E-mail address (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ahoma"/>
                <a:hlinkClick r:id="rId1"/>
              </a:rPr>
              <a:t>slickwilly@yahoo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ahoma"/>
              </a:rPr>
              <a:t>.com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Only use on resume it if you check 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7848720" y="2209680"/>
            <a:ext cx="4114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838080" y="2438280"/>
            <a:ext cx="7086600" cy="26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isa Fer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oom 235 Roosevelt Hal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ingston, RI 0288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401) 874-511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puddico@uri.ed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85800" y="5105520"/>
            <a:ext cx="845820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isa Fer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oom 235, Roosevelt Hall, Kingston, RI 02881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lpuddico@uri.edu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(401) 874-5119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057400" y="9907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Header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7:18:21Z</dcterms:created>
  <dc:creator>Lisa Ferns</dc:creator>
  <dc:description/>
  <dc:language>en-US</dc:language>
  <cp:lastModifiedBy>Carolyn Thomas</cp:lastModifiedBy>
  <dcterms:modified xsi:type="dcterms:W3CDTF">2008-03-25T19:14:22Z</dcterms:modified>
  <cp:revision>57</cp:revision>
  <dc:subject/>
  <dc:title>PowerPoint Presentation</dc:title>
</cp:coreProperties>
</file>